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frogs.wav" ContentType="audio/x-wav"/>
  <Override PartName="/ppt/media/applause.wav" ContentType="audio/x-wav"/>
  <Override PartName="/ppt/media/image2.gif" ContentType="image/gif"/>
  <Override PartName="/ppt/media/image3.png" ContentType="image/png"/>
  <Override PartName="/ppt/media/egghurler.wav" ContentType="audio/x-wav"/>
  <Override PartName="/ppt/media/frog11.wav" ContentType="audio/x-wav"/>
  <Override PartName="/ppt/media/image4.png" ContentType="image/png"/>
  <Override PartName="/ppt/media/grownupbreaks.wav" ContentType="audio/x-wav"/>
  <Override PartName="/ppt/media/image5.png" ContentType="image/png"/>
  <Override PartName="/ppt/media/yeehaw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E46-B8F1-4F51-A428-697EFFFD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029-4432-4846-A847-7EA7F3A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C7F-3535-4655-8D06-85D4DA55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443-EBCD-4A84-81EF-14F233B2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628-B0E6-4B21-9AA9-AD710ECC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31D-F29D-4703-BA47-D2D67A0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60E-B72C-4739-8C97-8334BA74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DE9-9C72-455B-B890-9D05F7A3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520-1F6C-410E-AADF-6714C1B6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A64-C59E-4ADA-87A0-17DB0C2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7E5-67B4-45A5-8157-A2197F8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D77-87FF-43BD-9A52-371F01E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8D79-3F1F-44C1-80EF-8CC373948CF4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oter4kids.com/Frogs/life_cycle_of_frog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gghurl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rownupbreak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1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Life Cycle of a Frog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029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3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second stage of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is 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la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017720" y="380880"/>
            <a:ext cx="1124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Sources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ooter4kids.com/Frogs/life_cycle_of_frogs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ttp://ecs.lewisham.gov.uk/youthspace/ca/Lorraine/frog_life_cycle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etamorphosi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Metamorphosis is the changes that a frog goes through during its life cyc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re are four main stages in the life cycle of the frog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334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Egg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first stage in the life cycle of the frog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frog lays many eggs at one time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eggs are covered with a jellylike coating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1" name="" descr="picture of frog spawn."/>
          <p:cNvPicPr/>
          <p:nvPr/>
        </p:nvPicPr>
        <p:blipFill>
          <a:blip r:embed="rId1"/>
          <a:stretch/>
        </p:blipFill>
        <p:spPr>
          <a:xfrm>
            <a:off x="6858000" y="2819520"/>
            <a:ext cx="2043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gghur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adpole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second stage of the frog life cycle is the tadpo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atched tadpoles have gills for breathing in the water. 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y have a tail, but no leg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54864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wnupbrea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s a tadpole grows, lungs begin to form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Back and front legs begin to grow.  These parts allow the adult frog to live on land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Adult Frog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nce the lungs form and begin to work, the gills and tail disappear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 adult frog is now ready to live on land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434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fir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he first stage of the frog life cycle is the </a:t>
            </a: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second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Edgewood User</cp:lastModifiedBy>
  <dcterms:modified xsi:type="dcterms:W3CDTF">2010-03-06T14:14:22Z</dcterms:modified>
  <cp:revision>12</cp:revision>
  <dc:subject/>
  <dc:title>Life Cycle of a Frog</dc:title>
</cp:coreProperties>
</file>