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frogs.wav" ContentType="audio/x-wav"/>
  <Override PartName="/ppt/media/applause.wav" ContentType="audio/x-wav"/>
  <Override PartName="/ppt/media/image2.gif" ContentType="image/gif"/>
  <Override PartName="/ppt/media/image3.png" ContentType="image/png"/>
  <Override PartName="/ppt/media/egghurler.wav" ContentType="audio/x-wav"/>
  <Override PartName="/ppt/media/frog11.wav" ContentType="audio/x-wav"/>
  <Override PartName="/ppt/media/image4.png" ContentType="image/png"/>
  <Override PartName="/ppt/media/grownupbreaks.wav" ContentType="audio/x-wav"/>
  <Override PartName="/ppt/media/image5.png" ContentType="image/png"/>
  <Override PartName="/ppt/media/yeehaw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8FC-7E59-4F7D-9814-BC51A28B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DF6-7784-4812-8E65-A0BCBE88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866-F249-4A7C-BB11-CCFE93D4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474-DA60-4912-AC0A-AAB4FB74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9F6-3B15-4898-A7BC-AD946600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F48-67B4-4F45-A930-78EC338D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D5B-C4AA-4690-865B-4340E8C7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722-7349-4EAC-AE3D-C7402179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C6F-7AE2-4546-9C96-F1C54B8B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E13-1925-4928-9030-DD3139D5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2A1-926D-4918-96C8-ACBBD516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9FE-8F48-4AA9-8C81-E5281F57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4C26-FF1C-496C-9F35-439747E3D628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yeehaw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oter4kids.com/Frogs/life_cycle_of_frogs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gghurle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grownupbreak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frog11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Life Cycle of a Frog</a:t>
            </a:r>
            <a:endParaRPr b="0" lang="en-US" sz="6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rade 3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50292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066680"/>
            <a:ext cx="8331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second stage of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frog life cycle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is the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tadpole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19520" y="5029200"/>
            <a:ext cx="3417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eha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last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1017720" y="380880"/>
            <a:ext cx="11244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last stage of the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frog life cycle is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adult frog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34290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Sources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tooter4kids.com/Frogs/life_cycle_of_frogs.ht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ttp://ecs.lewisham.gov.uk/youthspace/ca/Lorraine/frog_life_cycle.ht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Metamorphosis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Metamorphosis is the changes that a frog goes through during its life cycle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re are four main stages in the life cycle of the frog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5334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Egg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first stage in the life cycle of the frog is the 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 frog lays many eggs at one time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eggs are covered with a jellylike coating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360360" y="18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1" name="" descr="picture of frog spawn."/>
          <p:cNvPicPr/>
          <p:nvPr/>
        </p:nvPicPr>
        <p:blipFill>
          <a:blip r:embed="rId1"/>
          <a:stretch/>
        </p:blipFill>
        <p:spPr>
          <a:xfrm>
            <a:off x="6858000" y="2819520"/>
            <a:ext cx="20430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gghurl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Tadpole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second stage of the frog life cycle is the tadpole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atched tadpoles have gills for breathing in the water. 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y have a tail, but no legs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5486400"/>
            <a:ext cx="3417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rownupbrea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As a tadpole grows, lungs begin to form.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Back and front legs begin to grow.  These parts allow the adult frog to live on land.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Adult Frog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nce the lungs form and begin to work, the gills and tail disappear.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The adult frog is now ready to live on land.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26434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first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The first stage of the frog life cycle is the </a:t>
            </a:r>
            <a:r>
              <a:rPr b="0" lang="en-US" sz="72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0" lang="en-US" sz="8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8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2" name="" descr="picture of frog spawn."/>
          <p:cNvPicPr/>
          <p:nvPr/>
        </p:nvPicPr>
        <p:blipFill>
          <a:blip r:embed="rId1"/>
          <a:stretch/>
        </p:blipFill>
        <p:spPr>
          <a:xfrm>
            <a:off x="3733920" y="4495680"/>
            <a:ext cx="17780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second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8:20:05Z</dcterms:created>
  <dc:creator>Jefferson County Tech Center</dc:creator>
  <dc:description/>
  <dc:language>en-US</dc:language>
  <cp:lastModifiedBy>Edgewood User</cp:lastModifiedBy>
  <dcterms:modified xsi:type="dcterms:W3CDTF">2010-03-06T14:14:22Z</dcterms:modified>
  <cp:revision>12</cp:revision>
  <dc:subject/>
  <dc:title>Life Cycle of a Frog</dc:title>
</cp:coreProperties>
</file>