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frogs.wav" ContentType="audio/x-wav"/>
  <Override PartName="/ppt/media/applause.wav" ContentType="audio/x-wav"/>
  <Override PartName="/ppt/media/image2.gif" ContentType="image/gif"/>
  <Override PartName="/ppt/media/image3.png" ContentType="image/png"/>
  <Override PartName="/ppt/media/egghurler.wav" ContentType="audio/x-wav"/>
  <Override PartName="/ppt/media/frog11.wav" ContentType="audio/x-wav"/>
  <Override PartName="/ppt/media/image4.png" ContentType="image/png"/>
  <Override PartName="/ppt/media/grownupbreaks.wav" ContentType="audio/x-wav"/>
  <Override PartName="/ppt/media/image5.png" ContentType="image/png"/>
  <Override PartName="/ppt/media/yeehaw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494-F2F1-4F16-9EEC-48299193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2F3-E82F-4D7B-B0DF-0EA4220C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6F6-A07E-4BEA-8E31-9D80A8E3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B7D-23C2-42DC-9C9F-524E1C8A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651-D89F-44DF-B176-5C40C01C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A6D-E027-436C-87CF-3E76ABA7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936-A9F9-41AC-9D25-6E5656EF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CA2-23E3-4C8C-BFBA-08A0EFD4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A89-1E6B-4BD0-823B-9CD380CA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6E2-01F1-4E57-B621-A426CA7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57F-BD02-4FB9-B564-3AE4D87C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4FD-7847-4DE3-A995-302A3AA7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6E90-F9D3-4A90-9DA9-0A68FF31A22B}" type="slidenum"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yeehaw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frog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oter4kids.com/Frogs/life_cycle_of_frogs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gghurl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grownupbreak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frog11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Life Cycle of a Frog</a:t>
            </a:r>
            <a:endParaRPr b="0" lang="en-US" sz="6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rade 3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50292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066680"/>
            <a:ext cx="833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second stage of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frog life cycle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is the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tadpole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19520" y="50292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eha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last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017720" y="380880"/>
            <a:ext cx="11244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last stage of the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frog life cycle is 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6600" spc="-1" strike="noStrike">
                <a:solidFill>
                  <a:srgbClr val="990099"/>
                </a:solidFill>
                <a:latin typeface="Comic Sans MS"/>
              </a:rPr>
              <a:t>adult frog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4290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Sources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ooter4kids.com/Frogs/life_cycle_of_frogs.ht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ttp://ecs.lewisham.gov.uk/youthspace/ca/Lorraine/frog_life_cycle.htm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Metamorphosis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Metamorphosis is the changes that a frog goes through during its life cycl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re are four main stages in the life cycle of the frog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5334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Egg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first stage in the life cycle of the frog is the 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 frog lays many eggs at one time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eggs are covered with a jellylike coating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36036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1" name="" descr="picture of frog spawn."/>
          <p:cNvPicPr/>
          <p:nvPr/>
        </p:nvPicPr>
        <p:blipFill>
          <a:blip r:embed="rId1"/>
          <a:stretch/>
        </p:blipFill>
        <p:spPr>
          <a:xfrm>
            <a:off x="6858000" y="2819520"/>
            <a:ext cx="20430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gghurl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Tadpole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second stage of the frog life cycle is the tadpol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atched tadpoles have gills for breathing in the water. 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y have a tail, but no legs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5486400"/>
            <a:ext cx="3417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rownupbrea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As a tadpole grows, lungs begin to form.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Back and front legs begin to grow.  These parts allow the adult frog to live on land.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Adult Frog</a:t>
            </a:r>
            <a:endParaRPr b="0" lang="en-US" sz="6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nce the lungs form and begin to work, the gills and tail disappear.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he adult frog is now ready to live on land.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26434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first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The first stage of the frog life cycle is the </a:t>
            </a:r>
            <a:r>
              <a:rPr b="0" lang="en-US" sz="7200" spc="-1" strike="noStrike">
                <a:solidFill>
                  <a:srgbClr val="990099"/>
                </a:solidFill>
                <a:latin typeface="Comic Sans MS"/>
              </a:rPr>
              <a:t>egg</a:t>
            </a: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8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360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2" name="" descr="picture of frog spawn."/>
          <p:cNvPicPr/>
          <p:nvPr/>
        </p:nvPicPr>
        <p:blipFill>
          <a:blip r:embed="rId1"/>
          <a:stretch/>
        </p:blipFill>
        <p:spPr>
          <a:xfrm>
            <a:off x="3733920" y="4495680"/>
            <a:ext cx="17780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What is the second stage of the frog life cycle?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8:20:05Z</dcterms:created>
  <dc:creator>Jefferson County Tech Center</dc:creator>
  <dc:description/>
  <dc:language>en-US</dc:language>
  <cp:lastModifiedBy>Edgewood User</cp:lastModifiedBy>
  <dcterms:modified xsi:type="dcterms:W3CDTF">2010-03-06T14:14:22Z</dcterms:modified>
  <cp:revision>12</cp:revision>
  <dc:subject/>
  <dc:title>Life Cycle of a Frog</dc:title>
</cp:coreProperties>
</file>